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B462-2104-4C2B-98C7-6DB62A69C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699-8DC4-43AB-A740-A9BAF70E0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4BDA-97B8-4C55-ABD8-FF122449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BD5A-D142-4D9A-9707-C3D24E4E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EF9F-E5F3-4F6D-8517-912D8699A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277F-3095-45A8-91AB-83E47E4E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ADFB-90DD-4F1D-BACA-AA2A1CBE5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0B35-448B-415B-A50B-B72E37A69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5C76-48B5-457E-AB42-C2515EEE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475D-A3CA-40D7-A4FB-50D7C0F2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F892-45D3-481B-8352-4428B08C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E972-27AD-4390-AA33-F8872071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CC2-8CDF-483D-BDE3-40729FB2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C88-36E9-4CA9-B731-DF745FC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511-5C9C-4517-A6FC-0C13E12D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D93-64DF-4E96-9AC6-3C4AAF93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4EC-F6C7-4B0C-B0BB-197FD848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F8C-B11B-469D-A18F-4CC40AFB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E48-71CB-480A-A5D3-907B0DE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EC9-A004-4852-8D61-9BBEC1E3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956-6EA1-4C2D-9381-E3952458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252-1C23-47E9-AAB5-9BCFF324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535-FD3B-485E-95E9-506A8ED9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789-0461-4783-A8B4-80CC10F5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63640" y="6244920"/>
            <a:ext cx="216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40360" y="624492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09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D82D-3FF8-411B-86D9-51F3DF2C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2209680"/>
            <a:ext cx="6629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age Effe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05120" y="42667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1 Investigate graphic image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n02542_"/>
          <p:cNvPicPr/>
          <p:nvPr/>
        </p:nvPicPr>
        <p:blipFill>
          <a:blip r:embed="rId1"/>
          <a:stretch/>
        </p:blipFill>
        <p:spPr>
          <a:xfrm>
            <a:off x="3276720" y="3581280"/>
            <a:ext cx="1447560" cy="139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 rot="19552800">
            <a:off x="5638680" y="3276360"/>
            <a:ext cx="1849680" cy="18572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t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ing an object around its cent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the background color of a raster image to make it “see-throu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image to blend in with its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uma"/>
          <p:cNvPicPr/>
          <p:nvPr/>
        </p:nvPicPr>
        <p:blipFill>
          <a:blip r:embed="rId1"/>
          <a:stretch/>
        </p:blipFill>
        <p:spPr>
          <a:xfrm>
            <a:off x="5410080" y="45720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uma"/>
          <p:cNvPicPr/>
          <p:nvPr/>
        </p:nvPicPr>
        <p:blipFill>
          <a:blip r:embed="rId2"/>
          <a:stretch/>
        </p:blipFill>
        <p:spPr>
          <a:xfrm>
            <a:off x="1600200" y="4572000"/>
            <a:ext cx="35244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ing part of an image and using it to replace unwanted parts of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blemishes on a model’s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ush up text on a scanned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09680" y="502920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cloning%20pixels"/>
          <p:cNvPicPr/>
          <p:nvPr/>
        </p:nvPicPr>
        <p:blipFill>
          <a:blip r:embed="rId1"/>
          <a:stretch/>
        </p:blipFill>
        <p:spPr>
          <a:xfrm>
            <a:off x="2971800" y="4648320"/>
            <a:ext cx="3886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ting out part of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mage retains same fi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image can be saved as new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wb"/>
          <p:cNvPicPr/>
          <p:nvPr/>
        </p:nvPicPr>
        <p:blipFill>
          <a:blip r:embed="rId1"/>
          <a:stretch/>
        </p:blipFill>
        <p:spPr>
          <a:xfrm>
            <a:off x="4038480" y="4114800"/>
            <a:ext cx="3429000" cy="190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ropped"/>
          <p:cNvPicPr/>
          <p:nvPr/>
        </p:nvPicPr>
        <p:blipFill>
          <a:blip r:embed="rId2"/>
          <a:stretch/>
        </p:blipFill>
        <p:spPr>
          <a:xfrm>
            <a:off x="7696080" y="3657600"/>
            <a:ext cx="990720" cy="977760"/>
          </a:xfrm>
          <a:prstGeom prst="rect">
            <a:avLst/>
          </a:prstGeom>
          <a:ln w="0">
            <a:noFill/>
          </a:ln>
        </p:spPr>
      </p:pic>
      <p:sp>
        <p:nvSpPr>
          <p:cNvPr id="59" name="Line 12"/>
          <p:cNvSpPr/>
          <p:nvPr/>
        </p:nvSpPr>
        <p:spPr>
          <a:xfrm flipV="1">
            <a:off x="5029200" y="4038120"/>
            <a:ext cx="259092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apply special effects to an image that would be too difficult to create man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aving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ef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449604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ter 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7"/>
          <p:cNvGrpSpPr/>
          <p:nvPr/>
        </p:nvGrpSpPr>
        <p:grpSpPr>
          <a:xfrm>
            <a:off x="304920" y="304920"/>
            <a:ext cx="8458200" cy="6000480"/>
            <a:chOff x="304920" y="304920"/>
            <a:chExt cx="8458200" cy="6000480"/>
          </a:xfrm>
        </p:grpSpPr>
        <p:pic>
          <p:nvPicPr>
            <p:cNvPr id="64" name="Picture 3" descr="lightingeffect"/>
            <p:cNvPicPr/>
            <p:nvPr/>
          </p:nvPicPr>
          <p:blipFill>
            <a:blip r:embed="rId1"/>
            <a:stretch/>
          </p:blipFill>
          <p:spPr>
            <a:xfrm>
              <a:off x="304920" y="16002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" descr="patchwork"/>
            <p:cNvPicPr/>
            <p:nvPr/>
          </p:nvPicPr>
          <p:blipFill>
            <a:blip r:embed="rId2"/>
            <a:stretch/>
          </p:blipFill>
          <p:spPr>
            <a:xfrm>
              <a:off x="5257800" y="2438280"/>
              <a:ext cx="3505320" cy="26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warped"/>
            <p:cNvPicPr/>
            <p:nvPr/>
          </p:nvPicPr>
          <p:blipFill>
            <a:blip r:embed="rId3"/>
            <a:stretch/>
          </p:blipFill>
          <p:spPr>
            <a:xfrm>
              <a:off x="1600200" y="3733920"/>
              <a:ext cx="3429000" cy="25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6" descr="cougar"/>
            <p:cNvPicPr/>
            <p:nvPr/>
          </p:nvPicPr>
          <p:blipFill>
            <a:blip r:embed="rId4"/>
            <a:stretch/>
          </p:blipFill>
          <p:spPr>
            <a:xfrm>
              <a:off x="6096240" y="304920"/>
              <a:ext cx="2590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7"/>
            <p:cNvSpPr/>
            <p:nvPr/>
          </p:nvSpPr>
          <p:spPr>
            <a:xfrm>
              <a:off x="4953240" y="38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3200400" y="198108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al ligh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533520" y="457200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rped eff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6096240" y="5105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ch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d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an object/image with a smooth transition from one color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blue, gradually becoming wh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fading to 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gradient"/>
          <p:cNvPicPr/>
          <p:nvPr/>
        </p:nvPicPr>
        <p:blipFill>
          <a:blip r:embed="rId1"/>
          <a:srcRect l="9589" t="0" r="0" b="9589"/>
          <a:stretch/>
        </p:blipFill>
        <p:spPr>
          <a:xfrm>
            <a:off x="6629400" y="4572000"/>
            <a:ext cx="1523880" cy="15238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ing multiple pictures or objects together into on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can be turn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can be colored, layered, and resized individ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14400" y="22096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jcndraw"/>
          <p:cNvPicPr/>
          <p:nvPr/>
        </p:nvPicPr>
        <p:blipFill>
          <a:blip r:embed="rId1"/>
          <a:stretch/>
        </p:blipFill>
        <p:spPr>
          <a:xfrm>
            <a:off x="7218360" y="3809880"/>
            <a:ext cx="1590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2897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s on . . . Layers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3751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terns and Tex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63280" y="160020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s – raster graphics used to fill an object o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ures – used to create filters and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4346" r="12869" b="23185"/>
          <a:stretch/>
        </p:blipFill>
        <p:spPr>
          <a:xfrm>
            <a:off x="6095880" y="1600200"/>
            <a:ext cx="2590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9:02:01Z</dcterms:created>
  <dc:creator>Bladen Crockett</dc:creator>
  <dc:description/>
  <dc:language>en-US</dc:language>
  <cp:lastModifiedBy>ycsadmin</cp:lastModifiedBy>
  <dcterms:modified xsi:type="dcterms:W3CDTF">2011-06-23T16:11:20Z</dcterms:modified>
  <cp:revision>2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831033</vt:lpwstr>
  </property>
</Properties>
</file>